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966A-C5DB-4FD5-BD85-8EC0404B9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EF9D-2AA6-4E26-89DB-C2A232BA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C40C-E6AD-45A6-962A-FF478ADCA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15D0-663B-44B4-AC3F-7A83FEF38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2F47-24D5-4973-9D14-9D55AFF38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7627-4595-47F5-B7EF-ECC5913E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597F-416C-4C0B-B6CA-66751F20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7F58-2D3F-4567-AD79-55888F81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0BC8-1EE4-4291-9C6A-7B47A1B2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6ADEF-3B3F-4A21-B2F8-8C27E465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098D-0273-4E61-BDC7-BD5CA6E5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24C9-7CA7-4B3B-9947-AA32AA8D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ABCE-E777-4FB9-BB1D-F2F8C541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63133-A347-44DE-8C85-2FB9DAC3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3F9E-9F4F-4FD8-A8BF-2D874AAA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72861-CE81-4BB9-8BB9-851C4CA88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7340A-DB73-4FEB-9CD3-C291AA6E4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4E44-94E2-426D-856E-76A7855C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D619-FCF9-43E8-AD59-76E4BC9E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3B89-965A-422B-ACDD-69B8A58D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3AF0-6F00-4A57-B69C-297C69BE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E35E-2E04-4667-A696-71853687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C3BB-D649-42E3-A508-054508BF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BAF8-647B-424A-9BCC-7C75E57B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B541-131F-41E2-92AF-5FDED71EA5DA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14E9-9E34-4EBE-AED1-1AFBB002E65A}" type="slidenum"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676520" y="15228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4c"/>
                </a:solidFill>
                <a:latin typeface="Stencil"/>
              </a:rPr>
              <a:t>GRAPHING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213372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We use a graph to compare two measurements (</a:t>
            </a:r>
            <a:r>
              <a:rPr b="0" lang="en-US" sz="3200" spc="-1" strike="noStrike">
                <a:solidFill>
                  <a:srgbClr val="ba33c1"/>
                </a:solidFill>
                <a:latin typeface="Arial"/>
              </a:rPr>
              <a:t>variables</a:t>
            </a: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) in an experiment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434340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00264c"/>
                </a:solidFill>
                <a:uFillTx/>
                <a:latin typeface="Arial"/>
              </a:rPr>
              <a:t>independent variable</a:t>
            </a: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 is the one we control.  The </a:t>
            </a:r>
            <a:r>
              <a:rPr b="0" lang="en-US" sz="3200" spc="-1" strike="noStrike" u="sng">
                <a:solidFill>
                  <a:srgbClr val="00264c"/>
                </a:solidFill>
                <a:uFillTx/>
                <a:latin typeface="Arial"/>
              </a:rPr>
              <a:t>dependent variable</a:t>
            </a: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 is the one we want to measure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2286000" y="1066680"/>
          <a:ext cx="257040" cy="39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1066680"/>
                    <a:ext cx="257040" cy="39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 rot="5400000">
            <a:off x="1014120" y="279576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Distance (cm)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209680" y="4952880"/>
          <a:ext cx="5038920" cy="666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9680" y="4952880"/>
                    <a:ext cx="503892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3505320" y="586728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Time (sec)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05120" y="12193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86200" y="1676520"/>
            <a:ext cx="5029200" cy="27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264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Put your highest value for the Y axis on top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64c"/>
                </a:solidFill>
                <a:latin typeface="Arial"/>
              </a:rPr>
              <a:t>Tip:  </a:t>
            </a:r>
            <a:r>
              <a:rPr b="0" lang="en-US" sz="2400" spc="-1" strike="noStrike">
                <a:solidFill>
                  <a:srgbClr val="00264c"/>
                </a:solidFill>
                <a:latin typeface="Arial"/>
              </a:rPr>
              <a:t>Sometimes it helps to round this value to the nearest 10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8380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Distance in cm over tim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2286000" y="1066680"/>
          <a:ext cx="257040" cy="39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1066680"/>
                    <a:ext cx="257040" cy="39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 rot="5400000">
            <a:off x="1014120" y="279576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Distance (cm)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209680" y="4952880"/>
          <a:ext cx="5038920" cy="666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9680" y="4952880"/>
                    <a:ext cx="503892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3505320" y="586728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Time (sec)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12193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28800" y="3200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1523880"/>
            <a:ext cx="426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Now, find ½ of the largest number.  Put that value ½ of the way up the Y axi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43200" y="8380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Distance in cm over tim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2286000" y="1066680"/>
          <a:ext cx="257040" cy="39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1066680"/>
                    <a:ext cx="257040" cy="39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 rot="5400000">
            <a:off x="1014120" y="279576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Distance (cm)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209680" y="4952880"/>
          <a:ext cx="5038920" cy="666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9680" y="4952880"/>
                    <a:ext cx="503892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3505320" y="586728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Time (sec)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05120" y="12193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3200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48006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52480" y="4343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52480" y="3962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828800" y="3581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2819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28800" y="25146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35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057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1676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45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24280" y="1752480"/>
            <a:ext cx="3886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By now, you may be able to fill in the rest of the numbers on the Y axis.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43200" y="8380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Distance in cm over tim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905120" y="60948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MAKING THE GRAPH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47920" y="2057400"/>
            <a:ext cx="6400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Each data point is an </a:t>
            </a: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ordered pair.  </a:t>
            </a: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For each, you count to the </a:t>
            </a: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right</a:t>
            </a: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 for the seconds and you count </a:t>
            </a: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up</a:t>
            </a: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 for the cm.  Let’s do the first one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2286000" y="1066680"/>
          <a:ext cx="257040" cy="39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1066680"/>
                    <a:ext cx="257040" cy="39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 rot="5400000">
            <a:off x="1014120" y="279576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Distance (cm)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209680" y="4952880"/>
          <a:ext cx="5038920" cy="666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9680" y="4952880"/>
                    <a:ext cx="503892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3505320" y="586728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Time (sec)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05120" y="12193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828800" y="3200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28800" y="48006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2480" y="4343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52480" y="3962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28800" y="3581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2819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25146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35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828800" y="2057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828800" y="1676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45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8120" y="3429000"/>
            <a:ext cx="152280" cy="228600"/>
          </a:xfrm>
          <a:prstGeom prst="star5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25146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(5 sec, 22 cm)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0800000">
            <a:off x="3276360" y="2895480"/>
            <a:ext cx="609480" cy="914400"/>
          </a:xfrm>
          <a:custGeom>
            <a:avLst/>
            <a:gdLst>
              <a:gd name="textAreaLeft" fmla="*/ 0 w 609480"/>
              <a:gd name="textAreaRight" fmla="*/ 609840 w 6094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548" stAng="10800000" swAng="5400000"/>
                <a:lnTo>
                  <a:pt x="15637" y="4612"/>
                </a:lnTo>
                <a:lnTo>
                  <a:pt x="15637" y="0"/>
                </a:lnTo>
                <a:lnTo>
                  <a:pt x="21600" y="6079"/>
                </a:lnTo>
                <a:lnTo>
                  <a:pt x="15637" y="12158"/>
                </a:lnTo>
                <a:lnTo>
                  <a:pt x="15637" y="7546"/>
                </a:lnTo>
                <a:lnTo>
                  <a:pt x="12427" y="7546"/>
                </a:lnTo>
                <a:arcTo wR="9493" hR="4614" stAng="16200000" swAng="-5400000"/>
                <a:lnTo>
                  <a:pt x="2934" y="21600"/>
                </a:lnTo>
                <a:close/>
              </a:path>
            </a:pathLst>
          </a:custGeom>
          <a:solidFill>
            <a:srgbClr val="3a103c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8380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Distance in cm over tim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523880" y="1981080"/>
            <a:ext cx="6477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If you do the same thing with the other points, your graph will look like this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2286000" y="1066680"/>
          <a:ext cx="257040" cy="39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1066680"/>
                    <a:ext cx="257040" cy="39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 rot="5400000">
            <a:off x="1014120" y="279576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Distance (cm)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2209680" y="4952880"/>
          <a:ext cx="5038920" cy="666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9680" y="4952880"/>
                    <a:ext cx="503892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3505320" y="586728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Time (sec)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05120" y="12193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28800" y="3200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28800" y="48006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52480" y="4343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52480" y="3962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828800" y="3581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828800" y="2819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25146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35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2057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828800" y="1676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45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8120" y="3429000"/>
            <a:ext cx="152280" cy="228600"/>
          </a:xfrm>
          <a:prstGeom prst="star5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62520" y="3276720"/>
            <a:ext cx="152280" cy="228600"/>
          </a:xfrm>
          <a:prstGeom prst="star5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48320" y="2819520"/>
            <a:ext cx="152280" cy="228600"/>
          </a:xfrm>
          <a:prstGeom prst="star5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10080" y="2666880"/>
            <a:ext cx="152640" cy="228600"/>
          </a:xfrm>
          <a:prstGeom prst="star5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19920" y="2209680"/>
            <a:ext cx="152280" cy="228600"/>
          </a:xfrm>
          <a:prstGeom prst="star5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934320" y="1905120"/>
            <a:ext cx="152280" cy="228600"/>
          </a:xfrm>
          <a:prstGeom prst="star5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743200" y="8380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Distance in cm over tim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600200" y="1828800"/>
            <a:ext cx="6781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Use a “best fitting line” on your graph.  This means, use a ruler to draw a line that is approximately in the middle of all the point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42670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DO NOT CONNECT THE DOTS!!!!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541008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EVER!!!!!!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2286000" y="1066680"/>
          <a:ext cx="257040" cy="39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1066680"/>
                    <a:ext cx="257040" cy="39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 rot="5400000">
            <a:off x="1014120" y="279576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Distance (cm)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209680" y="4952880"/>
          <a:ext cx="5038920" cy="666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9680" y="4952880"/>
                    <a:ext cx="503892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3505320" y="586728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Time (sec)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05120" y="12193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828800" y="3200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828800" y="48006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52480" y="4343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52480" y="3962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28800" y="3581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828800" y="2819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828800" y="25146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35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28800" y="2057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28800" y="1676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45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8120" y="3429000"/>
            <a:ext cx="152280" cy="228600"/>
          </a:xfrm>
          <a:prstGeom prst="star5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3276720"/>
            <a:ext cx="152280" cy="228600"/>
          </a:xfrm>
          <a:prstGeom prst="star5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48320" y="2819520"/>
            <a:ext cx="152280" cy="228600"/>
          </a:xfrm>
          <a:prstGeom prst="star5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10080" y="2666880"/>
            <a:ext cx="152640" cy="228600"/>
          </a:xfrm>
          <a:prstGeom prst="star5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19920" y="2209680"/>
            <a:ext cx="152280" cy="228600"/>
          </a:xfrm>
          <a:prstGeom prst="star5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1905120"/>
            <a:ext cx="152280" cy="228600"/>
          </a:xfrm>
          <a:prstGeom prst="star5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8380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Distance in cm over tim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2437920" y="1676520"/>
            <a:ext cx="4953240" cy="2438280"/>
          </a:xfrm>
          <a:prstGeom prst="line">
            <a:avLst/>
          </a:prstGeom>
          <a:ln w="255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43000" y="3049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What do we include on a graph?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190512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64c"/>
                </a:solidFill>
                <a:latin typeface="Arial"/>
              </a:rPr>
              <a:t>T  A  I  L  S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2743200"/>
            <a:ext cx="75438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33c1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 itl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33c1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 xi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33c1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 ncremen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33c1"/>
                </a:solidFill>
                <a:latin typeface="Arial"/>
              </a:rPr>
              <a:t>L</a:t>
            </a: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ab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33c1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 cal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981080" y="0"/>
            <a:ext cx="5791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TITLE:  </a:t>
            </a: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The graph must have a title that explains what is being compared to what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1828800"/>
            <a:ext cx="655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AXIS:</a:t>
            </a: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  The independent variable (usually the first column of the data table) goes on the X axis.  The dependent variable (the second column of the data table) goes on the Y axi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5257800"/>
            <a:ext cx="693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00" name="BD16193_" descr=""/>
          <p:cNvPicPr/>
          <p:nvPr/>
        </p:nvPicPr>
        <p:blipFill>
          <a:blip r:embed="rId2"/>
          <a:stretch/>
        </p:blipFill>
        <p:spPr>
          <a:xfrm>
            <a:off x="2362320" y="5181480"/>
            <a:ext cx="1117440" cy="1295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962520" y="5181480"/>
            <a:ext cx="4724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NOTE:  </a:t>
            </a: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Time always goes on the X axis.  </a:t>
            </a: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ALWAYS!!!!!!!!!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600200" y="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Increments:</a:t>
            </a: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  The X and Y axis are number lines.  You have to decide what numbers to put on each line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2057400"/>
            <a:ext cx="670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Label:</a:t>
            </a: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  You need to identify what the X axis and Y axis stand for. 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3809880"/>
            <a:ext cx="7772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Your label </a:t>
            </a: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must</a:t>
            </a: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 contain units of measure.  It’s not enough to say “distance” and “time.”  The labels must say “cm” and “seconds” (it’s ok to abbreviate though)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23880" y="30492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Which number line is the X axis and which one is the Y axis?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213372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The X axis is always horizontal, the Y axis is always vertical.  Or……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3809880"/>
            <a:ext cx="8229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64c"/>
                </a:solidFill>
                <a:latin typeface="Arial"/>
              </a:rPr>
              <a:t>The X stands on his own two feet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64c"/>
                </a:solidFill>
                <a:latin typeface="Arial"/>
              </a:rPr>
              <a:t>The Y reaches for the sky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447920" y="45720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Scale:</a:t>
            </a: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  The graph should take up about ¾ of the graph paper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133720" y="4724280"/>
          <a:ext cx="30456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4724280"/>
                    <a:ext cx="30456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 rot="5400000">
            <a:off x="1296720" y="5141520"/>
            <a:ext cx="836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64c"/>
                </a:solidFill>
                <a:latin typeface="Arial"/>
              </a:rPr>
              <a:t>Distance (cm)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133720" y="5638680"/>
          <a:ext cx="5038560" cy="666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33720" y="5638680"/>
                    <a:ext cx="503856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3429000" y="63244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Time (sec)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5334120"/>
            <a:ext cx="75960" cy="152280"/>
          </a:xfrm>
          <a:prstGeom prst="star5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38280" y="35812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Distance in cm over tim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43000" y="20574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Arial"/>
              </a:rPr>
              <a:t>Looks kind of silly, don’t you think?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5257800"/>
            <a:ext cx="76320" cy="152280"/>
          </a:xfrm>
          <a:prstGeom prst="star5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48320" y="5181480"/>
            <a:ext cx="75960" cy="152640"/>
          </a:xfrm>
          <a:prstGeom prst="star5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4120" y="5029200"/>
            <a:ext cx="75960" cy="152280"/>
          </a:xfrm>
          <a:prstGeom prst="star5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72200" y="4800600"/>
            <a:ext cx="76320" cy="152280"/>
          </a:xfrm>
          <a:prstGeom prst="star5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724280"/>
            <a:ext cx="75960" cy="152640"/>
          </a:xfrm>
          <a:prstGeom prst="star5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47920" y="17524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For Example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143000" y="2438280"/>
          <a:ext cx="6095880" cy="406368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Time (sec)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istance (cm)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34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44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219320" y="22860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HOW DO WE NUMBER THE Y AXIS?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286000" y="1066680"/>
          <a:ext cx="257040" cy="39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1066680"/>
                    <a:ext cx="257040" cy="39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 rot="5400000">
            <a:off x="1014120" y="279576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Distance (cm)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209680" y="4952880"/>
          <a:ext cx="5038920" cy="666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9680" y="4952880"/>
                    <a:ext cx="503892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3505320" y="586728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Time (sec)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8380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Distance in cm over tim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2209680" y="1066680"/>
          <a:ext cx="257400" cy="39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1066680"/>
                    <a:ext cx="257400" cy="39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 rot="5400000">
            <a:off x="938160" y="279576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Distance (cm)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133720" y="4952880"/>
          <a:ext cx="5038560" cy="666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33720" y="4952880"/>
                    <a:ext cx="503856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3429000" y="58672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Time (sec)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05120" y="304920"/>
            <a:ext cx="76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Y axis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91520" y="495288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X axis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52480" y="4724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22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76520" y="40384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26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3276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2362320"/>
            <a:ext cx="533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52480" y="24382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34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76520" y="16765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52480" y="9144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64c"/>
                </a:solidFill>
                <a:latin typeface="Arial"/>
              </a:rPr>
              <a:t>44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24480" y="2590920"/>
            <a:ext cx="243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0543"/>
                </a:solidFill>
                <a:latin typeface="Arial Black"/>
              </a:rPr>
              <a:t>NO NO NO!!!!!!!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44280">
            <a:solidFill>
              <a:srgbClr val="f30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43200" y="8380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Distance in cm over tim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5T15:18:31Z</dcterms:created>
  <dc:creator>Administrator</dc:creator>
  <dc:description/>
  <dc:language>en-US</dc:language>
  <cp:lastModifiedBy>Administrator</cp:lastModifiedBy>
  <dcterms:modified xsi:type="dcterms:W3CDTF">2005-02-23T15:49:30Z</dcterms:modified>
  <cp:revision>6</cp:revision>
  <dc:subject/>
  <dc:title>PowerPoint Presentation</dc:title>
</cp:coreProperties>
</file>